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5.wmf" ContentType="image/x-wmf"/>
  <Override PartName="/ppt/media/image16.wmf" ContentType="image/x-wmf"/>
  <Override PartName="/ppt/media/image14.jpeg" ContentType="image/jpeg"/>
  <Override PartName="/ppt/media/image9.jpeg" ContentType="image/jpeg"/>
  <Override PartName="/ppt/media/image1.png" ContentType="image/png"/>
  <Override PartName="/ppt/media/image11.wmf" ContentType="image/x-wmf"/>
  <Override PartName="/ppt/media/image17.jpeg" ContentType="image/jpeg"/>
  <Override PartName="/ppt/media/image12.png" ContentType="image/png"/>
  <Override PartName="/ppt/media/image20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101-1995-4964-A218-FF96FBF1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BB0-964D-49A2-BF50-FF2052C7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686-D423-4BF3-BCD9-297DDD0A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E6A-B464-4B67-B57B-2FE9A3D6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971A-8EB4-4F38-89BF-E6CFA789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FA99-329A-45AA-A419-D79F7E9D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6751-73CC-4EF8-A3B7-24E7759D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9167-8F48-4A1E-8C98-27E75AD5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C9B9-0CD0-4B35-B6FD-A951A77C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5636-E813-48DA-8180-038BCAC7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52F6-21A5-4A1B-8F24-96DB9870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A81-D386-4F0E-90D7-EB1366EF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114B-6064-4ABB-9645-1184DA87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54FB-DA3B-4836-A900-52E69DA2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B906-EF70-4ADC-8BBB-8016B8D4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782B-717C-46D9-A753-1F55F555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3AEB-2EF1-4AF9-B645-7BB7652E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30D-BC20-417A-A326-A8744F3C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382-6EDE-4A16-877C-D78944AF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2E2-005C-4289-8B87-44F5032E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E07B-4091-4947-869F-92F38D21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DF8B-5E9F-4EB0-947B-92F582FF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CD60-093C-4E6D-825D-FDB8EEB8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38D-A803-4B44-AC36-9D82B58C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BAA8-09FF-4729-A666-FC885652E58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2BB9-55A4-43A4-99C9-0B4D491B17E5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www.matthewb.id.au/" TargetMode="Externa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atthewb.id.au/media/Light_Energy_Calculator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atthewb.id.au/solar/Solar_Hot_Water_Calculator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atthewb.id.au/media/Hot_Water_Energy_Calculator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b9efee"/>
                </a:solidFill>
                <a:latin typeface="Garamond"/>
              </a:rPr>
              <a:t>Energy Saving Guid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78920" y="321300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uch in Energy Savings are you missing out o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can more energy be saved with simple change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low cost changes will be a good return on investment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MCj04314960000[1]"/>
          <p:cNvPicPr/>
          <p:nvPr/>
        </p:nvPicPr>
        <p:blipFill>
          <a:blip r:embed="rId1"/>
          <a:stretch/>
        </p:blipFill>
        <p:spPr>
          <a:xfrm>
            <a:off x="2050920" y="12970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MPj04372700000[1]"/>
          <p:cNvPicPr/>
          <p:nvPr/>
        </p:nvPicPr>
        <p:blipFill>
          <a:blip r:embed="rId3"/>
          <a:stretch/>
        </p:blipFill>
        <p:spPr>
          <a:xfrm>
            <a:off x="4140360" y="1341360"/>
            <a:ext cx="1763640" cy="1762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MPj04055800000[1]"/>
          <p:cNvPicPr/>
          <p:nvPr/>
        </p:nvPicPr>
        <p:blipFill>
          <a:blip r:embed="rId4"/>
          <a:stretch/>
        </p:blipFill>
        <p:spPr>
          <a:xfrm>
            <a:off x="6156360" y="1341360"/>
            <a:ext cx="2592360" cy="17352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684360" y="5373720"/>
            <a:ext cx="8135640" cy="12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efee"/>
                </a:solidFill>
                <a:latin typeface="Garamond"/>
              </a:rPr>
              <a:t>Presented By Matthew Bulat </a:t>
            </a:r>
            <a:r>
              <a:rPr b="0" lang="en-US" sz="18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b9efee"/>
                </a:solidFill>
                <a:latin typeface="Garamond"/>
              </a:rPr>
              <a:t>M.Eng.Tec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ff99"/>
                </a:solidFill>
                <a:uFillTx/>
                <a:latin typeface="Garamond"/>
                <a:hlinkClick r:id="rId5"/>
              </a:rPr>
              <a:t>http://www.matthewb.id.au/</a:t>
            </a:r>
            <a:r>
              <a:rPr b="0" lang="en-AU" sz="1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b9efee"/>
                </a:solidFill>
                <a:latin typeface="Garamond"/>
              </a:rPr>
              <a:t>Sample Heating Cooling Saving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1890720"/>
                <a:gridCol w="2793960"/>
                <a:gridCol w="1181160"/>
                <a:gridCol w="1182600"/>
                <a:gridCol w="1181160"/>
              </a:tblGrid>
              <a:tr h="95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Year Power Cost $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% Heating Cooling Cost $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% sav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 ye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% sav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 ye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5% sav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 ye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4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Picture 162" descr="MCj03391820000[1]"/>
          <p:cNvPicPr/>
          <p:nvPr/>
        </p:nvPicPr>
        <p:blipFill>
          <a:blip r:embed="rId1"/>
          <a:stretch/>
        </p:blipFill>
        <p:spPr>
          <a:xfrm>
            <a:off x="3276720" y="1268280"/>
            <a:ext cx="9237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b9efee"/>
                </a:solidFill>
                <a:latin typeface="Garamond"/>
              </a:rPr>
              <a:t>Entertainmen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placing a rooms entertainment equipment on one power board and switching it off at the wall when not in us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pliances can be controlled by remote controlled power boards if power point access is difficul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urn off gaming consoles at the wall when not in use and save up to $200 per yea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k for 1 watt standby applian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4" descr="MCj04347810000[1]"/>
          <p:cNvPicPr/>
          <p:nvPr/>
        </p:nvPicPr>
        <p:blipFill>
          <a:blip r:embed="rId1"/>
          <a:stretch/>
        </p:blipFill>
        <p:spPr>
          <a:xfrm>
            <a:off x="6877080" y="115920"/>
            <a:ext cx="13953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b9efee"/>
                </a:solidFill>
                <a:latin typeface="Garamond"/>
              </a:rPr>
              <a:t>Sample Entertainment Equipment Standby Costs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360" y="1413000"/>
          <a:ext cx="8229600" cy="4495680"/>
        </p:xfrm>
        <a:graphic>
          <a:graphicData uri="http://schemas.openxmlformats.org/drawingml/2006/table">
            <a:tbl>
              <a:tblPr/>
              <a:tblGrid>
                <a:gridCol w="1136520"/>
                <a:gridCol w="1209600"/>
                <a:gridCol w="2625840"/>
                <a:gridCol w="3257640"/>
              </a:tblGrid>
              <a:tr h="95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ppli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ndby Wat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Year Standby Cost @ $0.16/kW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Potential Savings if off at wall when not in u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VD Play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27.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$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2.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$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box 3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90.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$1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S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258.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$2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 po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27.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$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 be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.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$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70"/>
          <p:cNvSpPr/>
          <p:nvPr/>
        </p:nvSpPr>
        <p:spPr>
          <a:xfrm>
            <a:off x="324000" y="60930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Garamond"/>
              </a:rPr>
              <a:t>To work out your exact savings for your appliances see Appliance Energy Calculat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b9efee"/>
                </a:solidFill>
                <a:latin typeface="Garamond"/>
              </a:rPr>
              <a:t>Computer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urn on computer power management with screen power down at 15 minutes and computer sleep in 30 minutes of inactiv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 computer peripherals with a USB controlled power board that is only on when the computer is 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a laptop instead of a desktop and save over 50% in energy costs on avera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y computers with Energy Star 4 or 5 rating and include 80 Plus standard power supplies    (&gt; 80% efficien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j0285750"/>
          <p:cNvPicPr/>
          <p:nvPr/>
        </p:nvPicPr>
        <p:blipFill>
          <a:blip r:embed="rId1"/>
          <a:stretch/>
        </p:blipFill>
        <p:spPr>
          <a:xfrm>
            <a:off x="7308720" y="260280"/>
            <a:ext cx="143676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b9efee"/>
                </a:solidFill>
                <a:latin typeface="Garamond"/>
              </a:rPr>
              <a:t>Sample Computer Saving Choice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9640" y="1268280"/>
          <a:ext cx="8229600" cy="4496040"/>
        </p:xfrm>
        <a:graphic>
          <a:graphicData uri="http://schemas.openxmlformats.org/drawingml/2006/table">
            <a:tbl>
              <a:tblPr/>
              <a:tblGrid>
                <a:gridCol w="2419560"/>
                <a:gridCol w="1731960"/>
                <a:gridCol w="3063600"/>
                <a:gridCol w="1014480"/>
              </a:tblGrid>
              <a:tr h="107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puter Ty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Year Power Used for 45 hours / week in kW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Year Power Cos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@ $0.16/kW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Savin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-optimized Dual Core Deskto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ergy Star 4 Deskto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$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ergy Star 4 Lapto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$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tboo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$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 Box 54"/>
          <p:cNvSpPr/>
          <p:nvPr/>
        </p:nvSpPr>
        <p:spPr>
          <a:xfrm>
            <a:off x="250920" y="5950080"/>
            <a:ext cx="8642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Garamond"/>
              </a:rPr>
              <a:t>To work out your exact savings for your computers see Computer Energy Calculat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Garamond"/>
              </a:rPr>
              <a:t>If building an efficient computer see Computer Power Consumption Calculator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55" descr="MPj04388440000[1]"/>
          <p:cNvPicPr/>
          <p:nvPr/>
        </p:nvPicPr>
        <p:blipFill>
          <a:blip r:embed="rId1"/>
          <a:stretch/>
        </p:blipFill>
        <p:spPr>
          <a:xfrm>
            <a:off x="971640" y="981000"/>
            <a:ext cx="10270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b9efee"/>
                </a:solidFill>
                <a:latin typeface="Garamond"/>
              </a:rPr>
              <a:t>Applianc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cold water for the washing machine. Save 50 - 150 litres of hot water costs per lo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clothes line rather than dryer. Save about $100 per ye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urn off fridges that do not need to be in use. Save about $100 for each fridge turned off per ye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ok for new appliances with 1 watt standby and are top performers in Energy St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4" descr="MCj01856880000[1]"/>
          <p:cNvPicPr/>
          <p:nvPr/>
        </p:nvPicPr>
        <p:blipFill>
          <a:blip r:embed="rId1"/>
          <a:stretch/>
        </p:blipFill>
        <p:spPr>
          <a:xfrm>
            <a:off x="7440480" y="469800"/>
            <a:ext cx="9241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b9efee"/>
                </a:solidFill>
                <a:latin typeface="Garamond"/>
              </a:rPr>
              <a:t>Timer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daily, weekly, countdown timers or sensors to limit lighting hou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ntdown timers can be used for classrooms, stairways, walkways, exhaust fans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n pool pumps on timers and vary run time relative to seasonal nee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y device with a moderate standby power consumption may benefit from a tim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Picture 4" descr="MCj03301870000[1]"/>
          <p:cNvPicPr/>
          <p:nvPr/>
        </p:nvPicPr>
        <p:blipFill>
          <a:blip r:embed="rId1"/>
          <a:stretch/>
        </p:blipFill>
        <p:spPr>
          <a:xfrm>
            <a:off x="611280" y="135000"/>
            <a:ext cx="1539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79640" y="274320"/>
            <a:ext cx="51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b9efee"/>
                </a:solidFill>
                <a:latin typeface="Garamond"/>
              </a:rPr>
              <a:t>Electricity Measuremen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measuring electricity consumption to accurately measure savings. Actively try to keep a lower average consump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$25 for power point measure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$100 for building power measure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$150 for large building 3 phase power measure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5" descr="Power point energy meter"/>
          <p:cNvPicPr/>
          <p:nvPr/>
        </p:nvPicPr>
        <p:blipFill>
          <a:blip r:embed="rId1"/>
          <a:stretch/>
        </p:blipFill>
        <p:spPr>
          <a:xfrm>
            <a:off x="395280" y="115920"/>
            <a:ext cx="1452600" cy="1452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Energy Meter"/>
          <p:cNvPicPr/>
          <p:nvPr/>
        </p:nvPicPr>
        <p:blipFill>
          <a:blip r:embed="rId2"/>
          <a:stretch/>
        </p:blipFill>
        <p:spPr>
          <a:xfrm>
            <a:off x="7236000" y="189000"/>
            <a:ext cx="1571400" cy="15066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0"/>
          <p:cNvSpPr/>
          <p:nvPr/>
        </p:nvSpPr>
        <p:spPr>
          <a:xfrm>
            <a:off x="324000" y="530064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Garamond"/>
              </a:rPr>
              <a:t>Home Energy Monitoring</a:t>
            </a:r>
            <a:r>
              <a:rPr b="0" lang="en-A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Garamond"/>
              </a:rPr>
              <a:t>Building Energy Monitor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b9efee"/>
                </a:solidFill>
                <a:latin typeface="Garamond"/>
              </a:rPr>
              <a:t>Energy Saving Tips Conclus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ch tips seem most attractive to you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earch the costs and savings onlin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a priority list of easiest or cheapest changes to imple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y to measure the before and after effects of the efficiency change to work out how much you save year after ye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 saving $100s or $1000s every ye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79280" y="5805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For more information see http://www.matthewb.id.au/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5" descr="MPj04383410000[1]"/>
          <p:cNvPicPr/>
          <p:nvPr/>
        </p:nvPicPr>
        <p:blipFill>
          <a:blip r:embed="rId1"/>
          <a:stretch/>
        </p:blipFill>
        <p:spPr>
          <a:xfrm>
            <a:off x="7462800" y="1125360"/>
            <a:ext cx="1430280" cy="1582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MPj04384790000[1]"/>
          <p:cNvPicPr/>
          <p:nvPr/>
        </p:nvPicPr>
        <p:blipFill>
          <a:blip r:embed="rId2"/>
          <a:stretch/>
        </p:blipFill>
        <p:spPr>
          <a:xfrm>
            <a:off x="7451640" y="4581360"/>
            <a:ext cx="139860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b9efee"/>
                </a:solidFill>
                <a:latin typeface="Garamond"/>
              </a:rPr>
              <a:t>Saving Categories Sampl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Ligh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Hot Wa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Coo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Hea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Entertai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Compu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Applia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Tim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Measur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4648320" y="2330280"/>
            <a:ext cx="403848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b9efee"/>
                </a:solidFill>
                <a:latin typeface="Garamond"/>
              </a:rPr>
              <a:t>Light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nge light bulbs for compact fluorescent lights or LED lights to save 80-88% on electric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fluorescent tubes with electronic controllers (ballasts) with lower wattage tubes and save 33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replacing halogen light fittings for compact fluorescent lights that fit in the same are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sunlight instead of artificial light if availa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urn off lights when you leave a roo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4" descr="light2"/>
          <p:cNvPicPr/>
          <p:nvPr/>
        </p:nvPicPr>
        <p:blipFill>
          <a:blip r:embed="rId1"/>
          <a:stretch/>
        </p:blipFill>
        <p:spPr>
          <a:xfrm>
            <a:off x="6877080" y="333360"/>
            <a:ext cx="15238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e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55"/>
          <p:cNvGraphicFramePr/>
          <p:nvPr/>
        </p:nvGraphicFramePr>
        <p:xfrm>
          <a:off x="108000" y="257040"/>
          <a:ext cx="8928000" cy="634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257040"/>
                    <a:ext cx="8928000" cy="634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b9efee"/>
                </a:solidFill>
                <a:latin typeface="Garamond"/>
              </a:rPr>
              <a:t>Year Running Cost for 2hrs/da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907920"/>
          <a:ext cx="8785440" cy="4496040"/>
        </p:xfrm>
        <a:graphic>
          <a:graphicData uri="http://schemas.openxmlformats.org/drawingml/2006/table">
            <a:tbl>
              <a:tblPr/>
              <a:tblGrid>
                <a:gridCol w="1944720"/>
                <a:gridCol w="2087640"/>
                <a:gridCol w="1873080"/>
                <a:gridCol w="1727280"/>
                <a:gridCol w="1152720"/>
              </a:tblGrid>
              <a:tr h="129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ld Ligh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icient Ligh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ld Light Cos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w Light Cos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Savings per yea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andescent 60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pact Fluorescent 13 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7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.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$5.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 38 Floodlight 125 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 38 CFL 23 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4.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2.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$11.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logen Downlight 55 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FL Downlight 13 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6.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.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$4.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luorescent Magnetic 36 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luorescent Electronic 24 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4.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2.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$1.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233"/>
          <p:cNvSpPr/>
          <p:nvPr/>
        </p:nvSpPr>
        <p:spPr>
          <a:xfrm>
            <a:off x="179280" y="5589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Garamond"/>
              </a:rPr>
              <a:t>Power Value used $0.16 / kWh. Efficient light also have less replacement requirement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235"/>
          <p:cNvSpPr/>
          <p:nvPr/>
        </p:nvSpPr>
        <p:spPr>
          <a:xfrm>
            <a:off x="250920" y="6093000"/>
            <a:ext cx="8713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Garamond"/>
              </a:rPr>
              <a:t>To work out your exact savings for your lighting hours see </a:t>
            </a:r>
            <a:r>
              <a:rPr b="0" lang="en-AU" sz="18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Light Energy Calculat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b9efee"/>
                </a:solidFill>
                <a:latin typeface="Garamond"/>
              </a:rPr>
              <a:t>Hot Wate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tall water saving shower rose and tap aerators to save over 50% on hot wa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y to limit showers to 4 minutes to save on hot water. Timers are availa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x any water leaks promptly. They can add 20000 litres per year to your usa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ork out how much hot water you use per year and see if solar hot water is cost effective. See </a:t>
            </a:r>
            <a:r>
              <a:rPr b="0" lang="en-AU" sz="28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Solar Hot Water Calculator</a:t>
            </a: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 and possibly save 80% in hot water power consump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MPj03996790000[1]"/>
          <p:cNvPicPr/>
          <p:nvPr/>
        </p:nvPicPr>
        <p:blipFill>
          <a:blip r:embed="rId2"/>
          <a:stretch/>
        </p:blipFill>
        <p:spPr>
          <a:xfrm>
            <a:off x="250920" y="115920"/>
            <a:ext cx="1143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e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4"/>
          <p:cNvGraphicFramePr/>
          <p:nvPr/>
        </p:nvGraphicFramePr>
        <p:xfrm>
          <a:off x="108000" y="257040"/>
          <a:ext cx="8928000" cy="634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257040"/>
                    <a:ext cx="8928000" cy="634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b9efee"/>
                </a:solidFill>
                <a:latin typeface="Garamond"/>
              </a:rPr>
              <a:t>Sample Hot Water Yearly Running Cost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981000"/>
          <a:ext cx="7210440" cy="1324080"/>
        </p:xfrm>
        <a:graphic>
          <a:graphicData uri="http://schemas.openxmlformats.org/drawingml/2006/table">
            <a:tbl>
              <a:tblPr/>
              <a:tblGrid>
                <a:gridCol w="2187360"/>
                <a:gridCol w="1814760"/>
                <a:gridCol w="3208320"/>
              </a:tblGrid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ter Use per Da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uant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i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howe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ut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nut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hwash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l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79280" y="2565360"/>
          <a:ext cx="8785440" cy="3133800"/>
        </p:xfrm>
        <a:graphic>
          <a:graphicData uri="http://schemas.openxmlformats.org/drawingml/2006/table">
            <a:tbl>
              <a:tblPr/>
              <a:tblGrid>
                <a:gridCol w="2001960"/>
                <a:gridCol w="1492200"/>
                <a:gridCol w="2638440"/>
                <a:gridCol w="265284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ter Results per ye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gular fittin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icient Fittin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Savings per yea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ter consumption litr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21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3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377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wer Used kW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19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wer Cost @ $0.16/kW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129"/>
          <p:cNvSpPr/>
          <p:nvPr/>
        </p:nvSpPr>
        <p:spPr>
          <a:xfrm>
            <a:off x="324000" y="5950080"/>
            <a:ext cx="84247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Garamond"/>
              </a:rPr>
              <a:t>To work out your exact savings for your hot water use see </a:t>
            </a:r>
            <a:r>
              <a:rPr b="0" lang="en-AU" sz="18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Hot Water Calculat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b9efee"/>
                </a:solidFill>
                <a:latin typeface="Garamond"/>
              </a:rPr>
              <a:t>Cooling and Heat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Cooling and heating consumes approximately 40% of the household energy budget in Australi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Insulation of walls and ceiling can reduce this running cost and cooling/heating capital cos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Glass tinting can reduce 80% of solar radi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Roof ventilation can reduce loft temperature by 5 degre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Reducing electrical loads also reduces cooling requireme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Consider running some air conditioners on off peak power to save in running cos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Clean air conditioner filter regularly to maintain efficienc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trol the area cooled or heated by closing doors, windows and stopping draf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verse cycle heating is about 3 times more efficient than resistive heate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2:00:33Z</dcterms:created>
  <dc:creator>Home</dc:creator>
  <dc:description/>
  <dc:language>en-US</dc:language>
  <cp:lastModifiedBy>Matthew Bulat</cp:lastModifiedBy>
  <dcterms:modified xsi:type="dcterms:W3CDTF">2018-03-07T01:23:59Z</dcterms:modified>
  <cp:revision>10</cp:revision>
  <dc:subject/>
  <dc:title>Energy Saving Tips</dc:title>
</cp:coreProperties>
</file>